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wmf" ContentType="image/x-wmf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EEB7-2DA0-4E3C-A6A9-594A106C989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3B04-F156-4B21-9C4B-A303E0B934F4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3F33-D65C-4C50-BDF1-1A123727D97D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C1BB-BEBE-4EFD-8919-A390BB5BF394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BC6A-5A16-4E43-A47C-90AA35D292A0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5F08-4E1A-4D3F-9DA2-F871043A6EED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F04C-CA24-4BA6-94CC-1C455298FE1B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FA8A-1340-4063-8EC6-BD3E93F0A294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1E16-2AF8-4E82-B647-E48334F0136E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AA6D-678D-403B-8CA6-5FC7C94FD241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C4E4-53A1-4C57-B44F-94A578C163F3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783D-FF67-43F1-939A-EA15AD1933F8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AB14-D923-448F-905D-E8BC67BEC358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0F2D-574C-4E5E-A0DA-543B9EB7B443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AAC6-F27C-41CD-98A6-46C500971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A7D7-2784-4089-ADE4-3BE9BAAC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4727-61C8-4393-962F-5B85774C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FFD7-9A12-46A0-BCE3-E1DFF4F63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415F-49F2-4CF1-A7DE-D4DEEE1C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2380-399A-46DD-9352-3AF71917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5460-6AD6-4E11-8CDE-A011ED51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0978-6ADD-4416-94F8-C975257E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D111-0871-4CC5-9645-DB71B74B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0FF7-FD8E-47EF-8074-0156547A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E8B2-4728-490E-98BD-CC9534B2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48D7-FFB7-472C-B8C6-044A61FD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01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9a9a9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c7c7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9C0D-B097-44AB-9C08-6432E0A0399E}" type="slidenum">
              <a:rPr b="0" lang="zh-CN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01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未命名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047760"/>
            <a:ext cx="556272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28240" y="3580920"/>
            <a:ext cx="51814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  <a:ea typeface="宋体"/>
              </a:rPr>
              <a:t>Angela Shi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宋体"/>
              </a:rPr>
              <a:t>VP of Stockholder Relation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01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  <a:ea typeface="宋体"/>
              </a:rPr>
              <a:t>Every supermarke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8" name="Picture 10" descr="11783879883757540130318504341"/>
          <p:cNvPicPr/>
          <p:nvPr/>
        </p:nvPicPr>
        <p:blipFill>
          <a:blip r:embed="rId1"/>
          <a:stretch/>
        </p:blipFill>
        <p:spPr>
          <a:xfrm>
            <a:off x="457200" y="1905120"/>
            <a:ext cx="4038480" cy="4419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U1221P1T1D11980415F21DT20070108123042"/>
          <p:cNvPicPr/>
          <p:nvPr/>
        </p:nvPicPr>
        <p:blipFill>
          <a:blip r:embed="rId2"/>
          <a:stretch/>
        </p:blipFill>
        <p:spPr>
          <a:xfrm>
            <a:off x="4724280" y="1905120"/>
            <a:ext cx="4038840" cy="4419360"/>
          </a:xfrm>
          <a:prstGeom prst="rect">
            <a:avLst/>
          </a:prstGeom>
          <a:ln w="0">
            <a:noFill/>
          </a:ln>
        </p:spPr>
      </p:pic>
    </p:spTree>
  </p:cSld>
  <p:transition advTm="2000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01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  <a:ea typeface="宋体"/>
              </a:rPr>
              <a:t>Sales in major market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57200" y="1935000"/>
            <a:ext cx="8229600" cy="4389480"/>
            <a:chOff x="457200" y="1935000"/>
            <a:chExt cx="8229600" cy="4389480"/>
          </a:xfrm>
        </p:grpSpPr>
        <p:pic>
          <p:nvPicPr>
            <p:cNvPr id="92" name="Text Placeholder 29" descr=""/>
            <p:cNvPicPr/>
            <p:nvPr/>
          </p:nvPicPr>
          <p:blipFill>
            <a:blip r:embed="rId1"/>
            <a:stretch/>
          </p:blipFill>
          <p:spPr>
            <a:xfrm>
              <a:off x="457200" y="1935000"/>
              <a:ext cx="822960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 txBox="1"/>
            <p:nvPr/>
          </p:nvSpPr>
          <p:spPr>
            <a:xfrm>
              <a:off x="457200" y="1935000"/>
              <a:ext cx="8229600" cy="438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272880" indent="-272880">
                <a:spcBef>
                  <a:spcPts val="64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  <p:transition advTm="2000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01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bf5f9"/>
                </a:solidFill>
                <a:latin typeface="Calibri"/>
                <a:ea typeface="宋体"/>
              </a:rPr>
              <a:t>The overall profits</a:t>
            </a:r>
            <a:br>
              <a:rPr sz="4600"/>
            </a:b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graphicFrame>
        <p:nvGraphicFramePr>
          <p:cNvPr id="95" name="Object 6"/>
          <p:cNvGraphicFramePr/>
          <p:nvPr/>
        </p:nvGraphicFramePr>
        <p:xfrm>
          <a:off x="380880" y="1295280"/>
          <a:ext cx="830592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059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000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01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dbf5f9"/>
                </a:solidFill>
                <a:latin typeface="바탕"/>
                <a:ea typeface="宋体"/>
              </a:rPr>
              <a:t>New product</a:t>
            </a:r>
            <a:endParaRPr b="0" lang="en-US" sz="5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9" name="Picture 4" descr="2008623143824499"/>
          <p:cNvPicPr/>
          <p:nvPr/>
        </p:nvPicPr>
        <p:blipFill>
          <a:blip r:embed="rId1"/>
          <a:stretch/>
        </p:blipFill>
        <p:spPr>
          <a:xfrm>
            <a:off x="4572000" y="1905120"/>
            <a:ext cx="4114800" cy="4386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  <a:ea typeface="宋体"/>
              </a:rPr>
              <a:t>Design for childre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  <a:ea typeface="宋体"/>
              </a:rPr>
              <a:t>With  vitamin C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  <a:ea typeface="宋体"/>
              </a:rPr>
              <a:t>Good for health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  <a:ea typeface="宋体"/>
              </a:rPr>
              <a:t>Attractive packaging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01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  <a:ea typeface="宋体"/>
              </a:rPr>
              <a:t>Thank you for watching         E-mail: angela@coca-cola.com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01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bf5f9"/>
                </a:solidFill>
                <a:latin typeface="Century Gothic"/>
                <a:ea typeface="GungsuhChe"/>
              </a:rPr>
              <a:t>Company Information</a:t>
            </a:r>
            <a:endParaRPr b="0" lang="en-US" sz="6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바탕"/>
                <a:ea typeface="宋体"/>
              </a:rPr>
              <a:t>Founded 1886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바탕"/>
                <a:ea typeface="宋体"/>
              </a:rPr>
              <a:t>Great leaders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바탕"/>
                <a:ea typeface="宋体"/>
              </a:rPr>
              <a:t>Efficient Management team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01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  <a:ea typeface="宋体"/>
              </a:rPr>
              <a:t>Great Leader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63" name="Picture 29" descr="5846599"/>
          <p:cNvPicPr/>
          <p:nvPr/>
        </p:nvPicPr>
        <p:blipFill>
          <a:blip r:embed="rId1"/>
          <a:stretch/>
        </p:blipFill>
        <p:spPr>
          <a:xfrm>
            <a:off x="5257800" y="0"/>
            <a:ext cx="3048120" cy="2117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0" descr=""/>
          <p:cNvPicPr/>
          <p:nvPr/>
        </p:nvPicPr>
        <p:blipFill>
          <a:blip r:embed="rId2"/>
          <a:stretch/>
        </p:blipFill>
        <p:spPr>
          <a:xfrm>
            <a:off x="5257800" y="2133720"/>
            <a:ext cx="3081240" cy="1904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1" descr="00025745"/>
          <p:cNvPicPr/>
          <p:nvPr/>
        </p:nvPicPr>
        <p:blipFill>
          <a:blip r:embed="rId3"/>
          <a:stretch/>
        </p:blipFill>
        <p:spPr>
          <a:xfrm>
            <a:off x="5257800" y="4038480"/>
            <a:ext cx="3048120" cy="2571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xinsrc_5821102151107453282767"/>
          <p:cNvPicPr/>
          <p:nvPr/>
        </p:nvPicPr>
        <p:blipFill>
          <a:blip r:embed="rId4"/>
          <a:stretch/>
        </p:blipFill>
        <p:spPr>
          <a:xfrm>
            <a:off x="380880" y="1905120"/>
            <a:ext cx="4038840" cy="4419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01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f5f9"/>
                </a:solidFill>
                <a:latin typeface="바탕"/>
                <a:ea typeface="宋体"/>
              </a:rPr>
              <a:t>Management </a:t>
            </a:r>
            <a:br>
              <a:rPr sz="4400"/>
            </a:br>
            <a:r>
              <a:rPr b="1" lang="en-US" sz="4400" spc="-1" strike="noStrike">
                <a:solidFill>
                  <a:srgbClr val="dbf5f9"/>
                </a:solidFill>
                <a:latin typeface="바탕"/>
                <a:ea typeface="宋体"/>
              </a:rPr>
              <a:t>team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  <a:ea typeface="宋体"/>
              </a:rPr>
              <a:t>  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宋体"/>
              </a:rPr>
              <a:t>From  92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宋体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宋体"/>
              </a:rPr>
              <a:t>countrie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宋体"/>
              </a:rPr>
              <a:t>Average age 37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9" name="Picture 6" descr="f4a088a234d563fa8efd8c9de6b5cfc7"/>
          <p:cNvPicPr/>
          <p:nvPr/>
        </p:nvPicPr>
        <p:blipFill>
          <a:blip r:embed="rId1"/>
          <a:stretch/>
        </p:blipFill>
        <p:spPr>
          <a:xfrm>
            <a:off x="4114800" y="762120"/>
            <a:ext cx="5029200" cy="6095880"/>
          </a:xfrm>
          <a:prstGeom prst="rect">
            <a:avLst/>
          </a:prstGeom>
          <a:ln w="0">
            <a:noFill/>
          </a:ln>
        </p:spPr>
      </p:pic>
    </p:spTree>
  </p:cSld>
  <p:transition advTm="2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01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bf5f9"/>
                </a:solidFill>
                <a:latin typeface="Calibri"/>
                <a:ea typeface="宋体"/>
              </a:rPr>
              <a:t>Big Markets</a:t>
            </a:r>
            <a:endParaRPr b="0" lang="en-US" sz="6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바탕"/>
                <a:ea typeface="宋体"/>
              </a:rPr>
              <a:t>Everyone drinks Coke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바탕"/>
                <a:ea typeface="宋体"/>
              </a:rPr>
              <a:t>Holidays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바탕"/>
                <a:ea typeface="宋体"/>
              </a:rPr>
              <a:t>Sponsor famous stars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advTm="2000">
    <p:blinds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01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bf5f9"/>
                </a:solidFill>
                <a:latin typeface="바탕"/>
                <a:ea typeface="宋体"/>
              </a:rPr>
              <a:t>Everyone drinks coke</a:t>
            </a:r>
            <a:endParaRPr b="0" lang="en-US" sz="5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8320" y="1934640"/>
            <a:ext cx="4038480" cy="21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4" name="Picture 19" descr="49645ed49188692e94b23"/>
          <p:cNvPicPr/>
          <p:nvPr/>
        </p:nvPicPr>
        <p:blipFill>
          <a:blip r:embed="rId1"/>
          <a:stretch/>
        </p:blipFill>
        <p:spPr>
          <a:xfrm>
            <a:off x="887400" y="1935000"/>
            <a:ext cx="3456000" cy="2117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0" descr="bd2e8d6144b6b25e122f5_m"/>
          <p:cNvPicPr/>
          <p:nvPr/>
        </p:nvPicPr>
        <p:blipFill>
          <a:blip r:embed="rId2"/>
          <a:stretch/>
        </p:blipFill>
        <p:spPr>
          <a:xfrm>
            <a:off x="4648320" y="1905120"/>
            <a:ext cx="4038480" cy="2260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1" descr="12445f69e8fg214"/>
          <p:cNvPicPr/>
          <p:nvPr/>
        </p:nvPicPr>
        <p:blipFill>
          <a:blip r:embed="rId3"/>
          <a:stretch/>
        </p:blipFill>
        <p:spPr>
          <a:xfrm>
            <a:off x="838080" y="4205160"/>
            <a:ext cx="3505320" cy="2119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2" descr="78bc74cf95fb4c69723f8ba157ebd99e"/>
          <p:cNvPicPr/>
          <p:nvPr/>
        </p:nvPicPr>
        <p:blipFill>
          <a:blip r:embed="rId4"/>
          <a:stretch/>
        </p:blipFill>
        <p:spPr>
          <a:xfrm>
            <a:off x="4648320" y="4205160"/>
            <a:ext cx="4038480" cy="2119320"/>
          </a:xfrm>
          <a:prstGeom prst="rect">
            <a:avLst/>
          </a:prstGeom>
          <a:ln w="0">
            <a:noFill/>
          </a:ln>
        </p:spPr>
      </p:pic>
    </p:spTree>
  </p:cSld>
  <p:transition advTm="2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01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19f3412f34"/>
          <p:cNvPicPr/>
          <p:nvPr/>
        </p:nvPicPr>
        <p:blipFill>
          <a:blip r:embed="rId1"/>
          <a:stretch/>
        </p:blipFill>
        <p:spPr>
          <a:xfrm>
            <a:off x="6019920" y="-380880"/>
            <a:ext cx="3124080" cy="26668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bf5f9"/>
                </a:solidFill>
                <a:latin typeface="Calibri"/>
                <a:ea typeface="宋体"/>
              </a:rPr>
              <a:t>Holidays</a:t>
            </a:r>
            <a:br>
              <a:rPr sz="4600"/>
            </a:b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80" name="Picture 6" descr="201001061005002125"/>
          <p:cNvPicPr/>
          <p:nvPr/>
        </p:nvPicPr>
        <p:blipFill>
          <a:blip r:embed="rId2"/>
          <a:stretch/>
        </p:blipFill>
        <p:spPr>
          <a:xfrm>
            <a:off x="0" y="1461960"/>
            <a:ext cx="7391520" cy="53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01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bf5f9"/>
                </a:solidFill>
                <a:latin typeface="바탕"/>
                <a:ea typeface="宋体"/>
              </a:rPr>
              <a:t>Sponsor of famous stars</a:t>
            </a:r>
            <a:br>
              <a:rPr sz="4800"/>
            </a:b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82" name="Picture 4" descr="CAM7EXMR"/>
          <p:cNvPicPr/>
          <p:nvPr/>
        </p:nvPicPr>
        <p:blipFill>
          <a:blip r:embed="rId1"/>
          <a:stretch/>
        </p:blipFill>
        <p:spPr>
          <a:xfrm>
            <a:off x="533520" y="1295280"/>
            <a:ext cx="2438280" cy="4876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00803020017111215[1]"/>
          <p:cNvPicPr/>
          <p:nvPr/>
        </p:nvPicPr>
        <p:blipFill>
          <a:blip r:embed="rId2"/>
          <a:stretch/>
        </p:blipFill>
        <p:spPr>
          <a:xfrm>
            <a:off x="3200400" y="1295280"/>
            <a:ext cx="594360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01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bf5f9"/>
                </a:solidFill>
                <a:latin typeface="Calibri"/>
                <a:ea typeface="宋体"/>
              </a:rPr>
              <a:t>Great sales</a:t>
            </a:r>
            <a:endParaRPr b="0" lang="en-US" sz="6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7f0101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  <a:ea typeface="宋体"/>
              </a:rPr>
              <a:t>Every supermarket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  <a:ea typeface="宋体"/>
              </a:rPr>
              <a:t>The sales in main countries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  <a:ea typeface="宋体"/>
              </a:rPr>
              <a:t>The overall profits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advTm="2000"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22:38:49Z</dcterms:created>
  <dc:creator>hp</dc:creator>
  <dc:description/>
  <dc:language>en-US</dc:language>
  <cp:lastModifiedBy>999</cp:lastModifiedBy>
  <dcterms:modified xsi:type="dcterms:W3CDTF">2010-04-27T14:56:23Z</dcterms:modified>
  <cp:revision>35</cp:revision>
  <dc:subject/>
  <dc:title>Coca-cola</dc:title>
</cp:coreProperties>
</file>